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790-7072-4830-BD02-C824EF05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4419-5DC8-45A6-9E9E-4F713EEE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0D329-5F5B-4A93-926E-272F88F5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AB3A5A-B10C-46DB-88EF-776D7951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121BE-EEE9-4723-97B5-9E1526BC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568ED-6684-4523-A0D5-4AE57445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44ADE-3058-4308-87EA-FD26064B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9B7C7-A045-49E0-A8D6-CEFA9FA8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602B2-0E9D-40C7-B728-9B016C0E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930B0-D5F5-4DC1-B1A7-311580B3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6FBA0-241B-48D2-92F2-FECDF00C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4B31F-B8A6-4216-B70D-28DB4B01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38C-A36C-4C92-831D-ED436BA9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706F2-DE30-4022-A845-CC6DEF49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6CA0B0-4DCA-4BC1-B1D4-14E528C6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913A5-A215-4BA0-B178-3C79504B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506B1-7810-4EFB-86EF-FB20240F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559B5-A6B3-472C-832F-B7FFB36F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60D34-2B71-409A-86C5-54FEAA5D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BF843-93BC-4A24-B2DD-109C3BB6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BE43D-FB8E-4727-99C3-1A8B43BD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AB56F-6C7A-4291-9870-7643447C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5DFA4-FB4B-4982-B649-AC6AAFB3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FF6-DE76-4D6C-9D3D-1A90610E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ED493-19FD-46ED-9706-4EBBC8FF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1A095-DE4F-43F4-81C3-3560D10C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20362-F6EE-4D8F-8EB2-8016730E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05204-9B6A-4506-86B4-8D33FA15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0E377-6002-44DD-9EFC-2E1A5D41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5A75D-27A4-4D07-8AB5-E3D6D626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83726-B0B0-443E-AE61-8167E02F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CFA16-9471-4CED-99C4-AC0E4E78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B5E9D-9BBF-421E-B860-2B5B978A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704C3-4B63-4F9C-AEF6-1261E5CF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CEB2-DDD5-4EA6-BA66-9D71DF72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00343-181E-4ACA-AEB2-F35815B1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505B6-C27A-4578-A6B8-7A77765B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E72BF-8BCF-4061-A1BD-4ED4EE96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D5510-8362-4C3A-94DF-84A33C7B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D3B023-A483-4D75-A6A6-62D8EABA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66CB4-EF79-485B-AAB2-ECA6E885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D0057-92E4-4C20-A2CB-C7B664FA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E7671-C481-45C6-9FBA-08BC80F4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A9EF1-9B64-4AAA-9352-E59C7FD7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53F06-F45C-4F2A-9115-0480D168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9F15-31A5-4E7D-A9A5-D083BDB8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89CC8-8571-4A06-8FF2-D3AC10B1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9B979-2947-4D2E-A5D6-31F55CC0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7442A-CF4E-44F6-8919-72F2298E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82FB3-8C88-471E-BECD-C7DFB049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1B2E8-0F36-44A2-A23A-BFD438E2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D6B9-C781-4A76-86D3-C02907A4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124B-B3F3-4F72-9959-C1ABC86C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9239-40E6-465C-A5F6-AB6A4E02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0E82-DF8C-4A0B-A013-EF4CEFDA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3BC0-EECE-4445-884E-6914144B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4E1-4E71-494C-94F5-FBD5F362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DB3D-5D51-4202-821B-5147980F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5B79-C499-4A50-91B2-7DA07EAF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B45E-ED66-40B0-B77D-DC30B87D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B373-86DE-4620-BB52-265A6B37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ABE2-F217-42E2-AA11-ED6005E2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709E-01E8-420E-8E75-00943ABE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BDF60-AEE8-49D2-996F-01297311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86086-7F10-448A-A0CF-E5C8CB02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6685D-414D-45BA-A57C-297550DB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2F8CD-5769-467E-B0C0-1813CF71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F65-D2BA-4145-A4E6-F724F62E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C8DEF-3EC7-434F-9B97-8DE3B776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DBAD8-1FFC-459F-9B9D-FBB7EA04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789FD-2498-4FA0-B8C1-352A52BB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BCEF4-3413-497A-A651-10382B83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A5406-E06C-4349-9F73-5B924316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EEAF-4652-4E40-AA8D-2ABB43AB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803F9-D4C2-476B-AED1-79312520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7FBEC-F670-4E72-95BE-604011EB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A9A62-5185-4E87-9343-50B4FA39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B386A-8426-4EA8-B31F-3AB3EBF3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F4AE-9C6A-4FDA-9233-4B87410C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2848-6823-4C7F-8218-4C6A373C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0FF9D-002C-4390-98DB-3CBC2944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6A0A-801C-49DF-86E8-F0FFF7D1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08D48-DDEB-48E7-8841-D2A62D30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7C6F2-8EE8-45AC-A555-4CA89E51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F6BDC-5B3D-493A-854A-7FFFC105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EBAC3-1183-4A2C-8F31-2643B153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7E70A-9792-4DBC-AE5D-E1978E0A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6EB9-264E-49A7-89AB-593580F0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61B90-BDD8-4510-832D-CC9C40BF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E0E-7610-4EE5-A6E3-E702C4BD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852C6-0ADF-430E-B734-F2B1BDA2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E45CA-9589-44BD-9C71-6C6DE4C3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7C101-6819-4447-A60D-21AA59E9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A62EE-E705-480F-A380-4748EDDD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FFB95-FD70-41EA-9D86-A0799D1A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AE18D-A1A1-4BBD-BFEF-20321E43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42680-C37A-42AE-AFF2-DEB3093C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8D150-5C2C-4ADD-B829-FD47928A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87C18-E3AF-46B3-9778-0123DD30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CDFAA-5A9B-4B62-8DBA-68694AF0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648-DB07-4B86-9F92-9528FBF8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93A83-89DB-4EEC-B549-A966F2EF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43256-0058-4E0F-8D67-EF3B37D5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B1999-DC66-4142-9C00-2829AEDD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56F52-5B70-4650-AF07-9D09CFA7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07822-D7D1-4B0C-9C50-A61E7A60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CDA9A-ED87-44D0-B9BF-416F4C1F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06572-283A-4196-AECD-6B1046D9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39D51-5908-40EF-A912-275837CE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4B61F-2780-42E1-9925-D77EA1DA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2867E-EC8E-42C2-87DB-8466B7C2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2C5-B118-4AF3-A79E-5F9C397A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BC418-8F1C-408D-9527-87504F5D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A568E-3798-4DC2-A97A-539EEAC8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9B17B-DF1B-481F-8D3C-F1D1EA97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A7AF8-F7A5-4AE2-8777-83699AA4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93154-D4B9-4237-BC9D-C84CFAF6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55401-BA9B-4996-A82C-B436F476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19134-41D7-4E78-A06E-09EDA2AA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5AE8F-2608-4C4C-ADCD-3CBC8EC3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3F6F2-9A70-436B-B590-88AB1A70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5CEB4-3F65-4C14-829A-832616FA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8A6-C3B4-482D-86A7-5EB00185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219CB-B80F-4918-9806-6AE16A3F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04346-A7AB-43A8-8003-28CAACE6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5ACF6-28BD-4A0C-AA62-1622906F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65D76-52E9-4DAA-89FC-E973E194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750D9-3332-42B7-A66A-2E5E308E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F7CFB-C8DE-4D6B-8D89-0F01CA8E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6CE4A-3C00-43EA-88A1-41B1625D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58A13-A61F-47E3-AE21-42AB1486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06EBA-040E-4AD7-B403-0D5AB927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9FDEB-73F7-4788-A423-98B66F11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66D-6D44-4137-89A2-869E5B00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3FC32-6073-4563-826A-A3839428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B7CBB-0E68-4DB9-BD2D-3373F729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A4E5B-F72A-457A-A81A-9A15B130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A5829-CE64-41AC-B605-B8F6B136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2793F-4169-47D5-A8AF-973AE7A6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4E6DD-BD4E-4636-9AF6-4C65D0A5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8026A-2EEF-4751-899E-BD84272D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0D237-5D20-4594-BFA9-4EF3F0D0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D3A42-EE54-458D-A77E-1F06BF47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954D7-AB6E-4709-80E5-D9562366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B654-57B2-4BF0-A41C-4B83204F07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D9F8-607B-481A-BFC4-FA9DA1D24B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7629-05F3-4D9E-B3DF-CD517BD5E2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DCA6-4CD8-4845-848D-B1CC234170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96D3-6892-4C93-BFD0-0E2981AE05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89A3-F8A4-4850-9901-9B7F5BF650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C2E2-9B90-4C1E-A560-EFC8503E4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288F-4AB6-4226-AA9E-0F82D3E03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DC5F-E051-4359-8094-C0A0495841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2C49-18BD-44D8-9B66-CAF20B99D3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9B93-B4B5-4378-90AA-A3AF40A979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8745-9724-4AD9-A180-BF8BA4F841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b86"/>
                </a:solidFill>
                <a:latin typeface="Georgia"/>
              </a:rPr>
              <a:t>SECTION 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BY SAHANA POTTI, SARAH WEINBERG, SLOANE O’REILL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hapter 13 States of Matte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oiling Poin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mp. vapor pressure liquid= external atmospheric pressur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ate increase as heat increases which allows more particles at the surface to overcome attractive forces and stay a liquid. The remaining particles  absorb energ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a liquid is heated to a temperature at which particles throughout the liquid have enough energy to vaporize, the liquid begins to boi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ea Leve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ssure at sea level when the surface water is at 70˚ Celsius, is greater then the vapor pressure and it does not boi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apor pressure= atmospheric pressure boi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 one rises in altitude, the temperate of the boiling point decreases because the atmospheric pressure is low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236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BOILING POINT AND PRESSURE CHANGES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2" descr="http://www.eoearth.org/files/190401_190500/190456/VaporPressureChart.png"/>
          <p:cNvPicPr/>
          <p:nvPr/>
        </p:nvPicPr>
        <p:blipFill>
          <a:blip r:embed="rId1"/>
          <a:stretch/>
        </p:blipFill>
        <p:spPr>
          <a:xfrm>
            <a:off x="3657600" y="457200"/>
            <a:ext cx="426708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inetic Ener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at increa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rticles w/ the highest kinetic energy escap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 heat goes up the liquid boils faster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bjectives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rometer- instrument to measure biometric pressur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anometer- instrument used to measure the pressure of liqui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particles get enough kinetic energy to vaporiz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bjectiv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5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oiling point- vapor pressure= atmospheric press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apor pressure- force exerted by a gas above liquid temperature- as it increases the liquid boils fast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rmal boiling point- point when a liquid is at a pressure of 101.3 kP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3:31:38Z</dcterms:created>
  <dc:creator>14spotti</dc:creator>
  <dc:description/>
  <dc:language>en-US</dc:language>
  <cp:lastModifiedBy>14spotti</cp:lastModifiedBy>
  <dcterms:modified xsi:type="dcterms:W3CDTF">2012-04-26T14:10:12Z</dcterms:modified>
  <cp:revision>6</cp:revision>
  <dc:subject/>
  <dc:title>Chapter 13 States of Matter</dc:title>
</cp:coreProperties>
</file>